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F19E355-B3DE-407A-B5F7-33DFE00E16A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A3BE8C5-50A4-411B-A62C-77C25C63A22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CC92F8A-5D70-4D26-9BA7-244CD56E3CB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23E84E8-5420-4F45-A148-19BBFBD2387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48DC36E-7CC5-4DF9-B1DC-69C4B288A6F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2F82BCA-6FF4-4F2B-8986-9F39F22BD45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2C949B0-77E0-4B4E-9413-B3204E81FB3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E9046B1-9F40-4F9D-9996-B86664D9E19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3DAF0BA-AF6D-455D-9503-04293B23B92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53C17C-4845-4198-B899-0F24E43AAC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272B50-05E6-484A-BC23-EAC6C3FC40A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A75A22-31D7-432E-AC05-C5F38EF95D7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2AC38E-94EC-4FDE-87F3-027AD968A64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29F219-7BDC-459C-B702-0C6CC5743E6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A1D950-9772-4E22-8ED7-1DB638AF7DD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9022B2-E28C-4894-83DE-2C965028FCF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28A929-3078-4EF2-ADC6-DC7BC678AF1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F50770-41C8-4FF1-B8FF-3F8E0EAAEA9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7FFF70-C370-4C71-AB71-A3D7E016E0A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788FFA-D184-460A-8A59-47209C2DE5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916DE9-D5DE-497F-B9AE-845ECC8A451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6382B30-8A41-4C32-A206-6CE792A7EE4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2F4CB1F-22F5-482E-87AC-FDEA6E5012C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66EA226-DF95-4D59-B7C7-14947014E0B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E1FED80-4C92-4380-B74C-F19F3280BE4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C72DC47-8947-48C2-8397-280A86EC4F4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A74A257-A2ED-47E2-AAF7-F6151CF9E3A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5FDC259-8F54-4F84-AF60-F9A396960AD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63DC2E1-AB09-418F-B281-C25FE6ECD6D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C5C6DCF-B36A-4FA4-95E6-A20D4D5F3F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69DD67A-C203-43D0-A500-AF1C1F71EE3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38BFC76-065C-4EAD-80B1-1651B7B35A5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6FAE030-CACE-4CB8-86D5-4B8BC3DAF0E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3332D4E-3C93-490F-90CA-60A9A6CC96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5CF5DD-762F-42DC-8902-5C6A0EADC7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F94F15-13C6-4B7A-8514-7E4223E92E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39F361-909D-4D16-A555-AE35CC193C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22930A-2E9D-4269-A4BA-044D37BEA3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0C9FE5-C859-4AD6-A9BA-0373F80DCF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9EF8E3-2B05-46BB-B20B-4D9A57B139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03DDE9-03AB-4288-A011-D681A3C150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46CB99-F842-488C-88C3-706136AE72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FD7D2C-841B-4589-A896-148B0BEAA4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2E7966-63E4-41D2-BA37-AB781F0B4F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26FE0E-F1D6-4509-B400-A70D50BB68A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3AEF47E-0E35-49A7-9006-212D0F041E6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42F3138-5DD4-422C-89FA-E80AE7196CD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2513C72-5F0E-4CEC-B046-50035ABE85E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4F51B32-AC2E-4CC8-BA07-125D4C5EA60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5C5259C-3AA3-497C-9636-9B4BEEF5D3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711909-375D-48DA-8CC4-5B504D14D82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159E04-EA76-4A71-8A43-FEC1CCA252A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8EA99D-5B54-43F0-996A-33DDDBF27C2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550247-83B3-44FB-92A3-51ADADDDEF1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7E779BA-2409-4B81-93E6-21067A20773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8DD6F3E-9A88-4C7F-BB2A-3788A4D93A0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1B36805-F0CD-4951-B22D-97C4EBB6CCE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1EB21B-7F18-4A19-83B8-289FEF58496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AD7A8-FF15-48A2-B43A-B33692FF705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8C635-EE29-4BB6-AE1B-ADCFE41177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4D0BB-0324-4CB1-929B-BC215D1D33B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D3C27-1E65-4737-A800-C13B92E04F9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6761F-BB13-449C-94EE-40921534807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4EF59-1DF5-4B87-9605-D039208CACE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FE0B1-088B-41B5-9AFE-B885314D0DF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CB188-4E21-403C-A3FE-8FF9BB4FE4D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809AC-5B88-408B-8B28-734E0833037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BFF821-34D0-4212-BB7D-744B2D06940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200577-B6D6-43CC-B2D6-D9527FEAAD3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F1BC598-EC43-4247-9634-21588ED3D6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B5DC2DA-DEB8-49EB-B60A-48A37BF4FBA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EB903BC-9DD6-458E-84A1-EBC8E7055F2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4A828BE-F0D4-4994-A52F-D7C6AD141B4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65E5348-FA48-4D50-AA7D-2CE11F2767C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04CF6EB-1F73-473A-B6FB-9349C54FD83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AE37E76-6728-4029-A448-B7411D14AC1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BCD503F-849E-4029-BC9D-C514EE9D674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A3E29E4-54AB-499D-A486-72E3A80076F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BCF3D70-F949-46CE-BF10-8BB06D2A4AC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2C52B05-ECDB-40F9-B58C-E71E68E2AC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D89CE6E-5514-494D-A500-F4BA844C13E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1EA9A66-1395-45C7-AF4D-2D0E926BF14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12F2D28-0950-4FAF-BD32-CD09105814E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3D12406-11E0-4422-8CA6-A770842EB26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8CE238F-707C-4467-8437-B065DC9663E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6AF92A3-3958-4531-97F7-95BDE0EB82B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8374BEC-FC6F-4848-8AB4-85B5AC42DD2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FD16560-FDA5-4DAB-AA85-95064A2E71D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9FE1759-7E95-4A20-9EF5-28485134B52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D34887B-FD45-414B-95C0-8B1BAB3BEA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4AF7ADC-EBD6-4614-B6FF-462FA8352C5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37D482C-6A61-4D49-A1B4-9873FC28EFF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AC4ADC3-C6C7-4E04-8774-60E7B2837B7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00C65A-563B-4D33-AB96-FEFACA9BA0A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ED84DF-1E0D-4958-B087-4F9CAE43460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45229A-EAC3-4DA9-B9F5-7EFBCB3EA19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A1D790-87B2-4FEE-AE02-FDC89A20455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199E1B-A51C-41E4-8D84-EEE7470E960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059069-2E4B-4270-A859-9650995F07D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143345-C858-4C1A-8F47-3D30E10D89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679809-62D0-4F55-B499-8DE0A8621A8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5D6E50-5E14-4C9F-B1A7-5FFD0692F93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B6102E-C90A-4684-A39C-3A1B2F3784F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21D2CE-D771-4F91-B467-54815D7DEA6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83B0EB-42DC-4B1F-A027-18F71281EBC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38590E4-0C82-43A4-A1BE-83768908761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8082690-F6D6-4387-BC4B-E8DB8810728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7F5D06B-9942-4851-99C3-CB3F52D8166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CD7CB2C-22AD-4151-A14F-1A3D471C47F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1328451-FC83-49D0-9214-E3363BB60C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13922FC-DB2C-40DE-87E5-F904DEE4B90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2530B25-C6CF-47D6-8E51-88BF7D8DD0B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ACBD5AB-C650-4B7D-ACC0-C4E1BBDF162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0760041-EF7E-4BA5-A32A-D2261205737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F4BE72C-8C1A-4CE1-9298-24A023A3152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E899FFF-8B31-40D3-A8A6-8B4CA9183AA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74DBEA7-6C42-4BCA-B116-278810E4FBC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D29B03E2-C97A-4288-BFA8-855874D365B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582AD99-933B-4547-B219-6E8FEDBC6EE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3C9030A-DBB0-43DB-9AB6-954E942083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0"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2" name="Picture 8" descr=""/>
          <p:cNvPicPr/>
          <p:nvPr/>
        </p:nvPicPr>
        <p:blipFill>
          <a:blip r:embed="rId2"/>
          <a:srcRect l="0" t="0" r="0" b="20622"/>
          <a:stretch/>
        </p:blipFill>
        <p:spPr>
          <a:xfrm>
            <a:off x="-227160" y="-19080"/>
            <a:ext cx="1089000" cy="85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369"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70"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371" name="Picture 8" descr=""/>
          <p:cNvPicPr/>
          <p:nvPr/>
        </p:nvPicPr>
        <p:blipFill>
          <a:blip r:embed="rId2"/>
          <a:srcRect l="0" t="0" r="0" b="20622"/>
          <a:stretch/>
        </p:blipFill>
        <p:spPr>
          <a:xfrm>
            <a:off x="-227160" y="-19080"/>
            <a:ext cx="1089000" cy="851040"/>
          </a:xfrm>
          <a:prstGeom prst="rect">
            <a:avLst/>
          </a:prstGeom>
          <a:ln w="0">
            <a:noFill/>
          </a:ln>
        </p:spPr>
      </p:pic>
      <p:sp>
        <p:nvSpPr>
          <p:cNvPr id="372" name="PlaceHolder 1"/>
          <p:cNvSpPr>
            <a:spLocks noGrp="1"/>
          </p:cNvSpPr>
          <p:nvPr>
            <p:ph type="ftr" idx="17"/>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zione test ammissione facoltà architettura e design a.a.06707presentazione test di ammissione alle facolt</a:t>
            </a:r>
            <a:r>
              <a:rPr b="0" lang="it-IT" sz="2400" spc="-1" strike="noStrike">
                <a:solidFill>
                  <a:srgbClr val="000000"/>
                </a:solidFill>
                <a:latin typeface="Arial"/>
              </a:rPr>
              <a:t>à di architettura – a.a.2005/2006</a:t>
            </a:r>
            <a:endParaRPr b="0" lang="en-US" sz="2400" spc="-1" strike="noStrike">
              <a:solidFill>
                <a:srgbClr val="000000"/>
              </a:solidFill>
              <a:latin typeface="Times New Roman"/>
            </a:endParaRPr>
          </a:p>
        </p:txBody>
      </p:sp>
      <p:sp>
        <p:nvSpPr>
          <p:cNvPr id="373" name="PlaceHolder 2"/>
          <p:cNvSpPr>
            <a:spLocks noGrp="1"/>
          </p:cNvSpPr>
          <p:nvPr>
            <p:ph type="sldNum" idx="18"/>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EBD31-E29E-46E2-A254-D27420AEEB3F}"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410"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11"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412" name="Picture 8" descr=""/>
          <p:cNvPicPr/>
          <p:nvPr/>
        </p:nvPicPr>
        <p:blipFill>
          <a:blip r:embed="rId2"/>
          <a:srcRect l="0" t="0" r="0" b="20622"/>
          <a:stretch/>
        </p:blipFill>
        <p:spPr>
          <a:xfrm>
            <a:off x="-227160" y="-19080"/>
            <a:ext cx="1089000" cy="851040"/>
          </a:xfrm>
          <a:prstGeom prst="rect">
            <a:avLst/>
          </a:prstGeom>
          <a:ln w="0">
            <a:noFill/>
          </a:ln>
        </p:spPr>
      </p:pic>
      <p:sp>
        <p:nvSpPr>
          <p:cNvPr id="413" name="PlaceHolder 1"/>
          <p:cNvSpPr>
            <a:spLocks noGrp="1"/>
          </p:cNvSpPr>
          <p:nvPr>
            <p:ph type="ftr" idx="19"/>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azione test ammissione facoltà architettura e design a.a.06707presentazione test di ammissione alle facolt</a:t>
            </a:r>
            <a:r>
              <a:rPr b="0" lang="it-IT" sz="2400" spc="-1" strike="noStrike">
                <a:solidFill>
                  <a:srgbClr val="ffffff"/>
                </a:solidFill>
                <a:latin typeface="Arial"/>
              </a:rPr>
              <a:t>à di architettura – a.a.2005/2006</a:t>
            </a:r>
            <a:endParaRPr b="0" lang="en-US" sz="2400" spc="-1" strike="noStrike">
              <a:solidFill>
                <a:srgbClr val="000000"/>
              </a:solidFill>
              <a:latin typeface="Times New Roman"/>
            </a:endParaRPr>
          </a:p>
        </p:txBody>
      </p:sp>
      <p:sp>
        <p:nvSpPr>
          <p:cNvPr id="414" name="PlaceHolder 2"/>
          <p:cNvSpPr>
            <a:spLocks noGrp="1"/>
          </p:cNvSpPr>
          <p:nvPr>
            <p:ph type="sldNum" idx="20"/>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0DC36-11AB-4197-82D9-09597A553EB6}" type="slidenum">
              <a:rPr b="0" lang="en-US" sz="2400" spc="-1" strike="noStrike">
                <a:solidFill>
                  <a:srgbClr val="ffffff"/>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39"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0"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41" name="Picture 8" descr=""/>
          <p:cNvPicPr/>
          <p:nvPr/>
        </p:nvPicPr>
        <p:blipFill>
          <a:blip r:embed="rId2"/>
          <a:srcRect l="0" t="0" r="0" b="20622"/>
          <a:stretch/>
        </p:blipFill>
        <p:spPr>
          <a:xfrm>
            <a:off x="-227160" y="-19080"/>
            <a:ext cx="1089000" cy="851040"/>
          </a:xfrm>
          <a:prstGeom prst="rect">
            <a:avLst/>
          </a:prstGeom>
          <a:ln w="0">
            <a:noFill/>
          </a:ln>
        </p:spPr>
      </p:pic>
      <p:sp>
        <p:nvSpPr>
          <p:cNvPr id="42" name="PlaceHolder 1"/>
          <p:cNvSpPr>
            <a:spLocks noGrp="1"/>
          </p:cNvSpPr>
          <p:nvPr>
            <p:ph type="ftr" idx="1"/>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zione test ammissione facoltà architettura e design a.a.06707presentazione test di ammissione alle facolt</a:t>
            </a:r>
            <a:r>
              <a:rPr b="0" lang="it-IT" sz="2400" spc="-1" strike="noStrike">
                <a:solidFill>
                  <a:srgbClr val="000000"/>
                </a:solidFill>
                <a:latin typeface="Arial"/>
              </a:rPr>
              <a:t>à di architettura – a.a.2005/2006</a:t>
            </a:r>
            <a:endParaRPr b="0" lang="en-US" sz="2400" spc="-1" strike="noStrike">
              <a:solidFill>
                <a:srgbClr val="000000"/>
              </a:solidFill>
              <a:latin typeface="Times New Roman"/>
            </a:endParaRPr>
          </a:p>
        </p:txBody>
      </p:sp>
      <p:sp>
        <p:nvSpPr>
          <p:cNvPr id="43" name="PlaceHolder 2"/>
          <p:cNvSpPr>
            <a:spLocks noGrp="1"/>
          </p:cNvSpPr>
          <p:nvPr>
            <p:ph type="sldNum" idx="2"/>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A8CEC-2CD4-4B53-B66C-004257AB668E}"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80"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81"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82" name="Picture 8" descr=""/>
          <p:cNvPicPr/>
          <p:nvPr/>
        </p:nvPicPr>
        <p:blipFill>
          <a:blip r:embed="rId2"/>
          <a:srcRect l="0" t="0" r="0" b="20622"/>
          <a:stretch/>
        </p:blipFill>
        <p:spPr>
          <a:xfrm>
            <a:off x="-227160" y="-19080"/>
            <a:ext cx="1089000" cy="851040"/>
          </a:xfrm>
          <a:prstGeom prst="rect">
            <a:avLst/>
          </a:prstGeom>
          <a:ln w="0">
            <a:noFill/>
          </a:ln>
        </p:spPr>
      </p:pic>
      <p:sp>
        <p:nvSpPr>
          <p:cNvPr id="83" name="PlaceHolder 1"/>
          <p:cNvSpPr>
            <a:spLocks noGrp="1"/>
          </p:cNvSpPr>
          <p:nvPr>
            <p:ph type="ftr" idx="3"/>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zione test ammissione facoltà architettura e design a.a.06707presentazione test di ammissione alle facolt</a:t>
            </a:r>
            <a:r>
              <a:rPr b="0" lang="it-IT" sz="2400" spc="-1" strike="noStrike">
                <a:solidFill>
                  <a:srgbClr val="000000"/>
                </a:solidFill>
                <a:latin typeface="Arial"/>
              </a:rPr>
              <a:t>à di architettura – a.a.2005/2006</a:t>
            </a:r>
            <a:endParaRPr b="0" lang="en-US" sz="2400" spc="-1" strike="noStrike">
              <a:solidFill>
                <a:srgbClr val="000000"/>
              </a:solidFill>
              <a:latin typeface="Times New Roman"/>
            </a:endParaRPr>
          </a:p>
        </p:txBody>
      </p:sp>
      <p:sp>
        <p:nvSpPr>
          <p:cNvPr id="84" name="PlaceHolder 2"/>
          <p:cNvSpPr>
            <a:spLocks noGrp="1"/>
          </p:cNvSpPr>
          <p:nvPr>
            <p:ph type="sldNum" idx="4"/>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73CE-6814-4DD1-BD68-2A53A2478D8B}"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21"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22"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123" name="Picture 8" descr=""/>
          <p:cNvPicPr/>
          <p:nvPr/>
        </p:nvPicPr>
        <p:blipFill>
          <a:blip r:embed="rId2"/>
          <a:srcRect l="0" t="0" r="0" b="20622"/>
          <a:stretch/>
        </p:blipFill>
        <p:spPr>
          <a:xfrm>
            <a:off x="-227160" y="-19080"/>
            <a:ext cx="1089000" cy="851040"/>
          </a:xfrm>
          <a:prstGeom prst="rect">
            <a:avLst/>
          </a:prstGeom>
          <a:ln w="0">
            <a:noFill/>
          </a:ln>
        </p:spPr>
      </p:pic>
      <p:sp>
        <p:nvSpPr>
          <p:cNvPr id="124" name="PlaceHolder 1"/>
          <p:cNvSpPr>
            <a:spLocks noGrp="1"/>
          </p:cNvSpPr>
          <p:nvPr>
            <p:ph type="ftr" idx="5"/>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zione test ammissione facoltà architettura e design a.a.06707presentazione test di ammissione alle facolt</a:t>
            </a:r>
            <a:r>
              <a:rPr b="0" lang="it-IT" sz="2400" spc="-1" strike="noStrike">
                <a:solidFill>
                  <a:srgbClr val="000000"/>
                </a:solidFill>
                <a:latin typeface="Arial"/>
              </a:rPr>
              <a:t>à di architettura – a.a.2005/2006</a:t>
            </a:r>
            <a:endParaRPr b="0" lang="en-US" sz="2400" spc="-1" strike="noStrike">
              <a:solidFill>
                <a:srgbClr val="000000"/>
              </a:solidFill>
              <a:latin typeface="Times New Roman"/>
            </a:endParaRPr>
          </a:p>
        </p:txBody>
      </p:sp>
      <p:sp>
        <p:nvSpPr>
          <p:cNvPr id="125" name="PlaceHolder 2"/>
          <p:cNvSpPr>
            <a:spLocks noGrp="1"/>
          </p:cNvSpPr>
          <p:nvPr>
            <p:ph type="sldNum" idx="6"/>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0DE13-F2B3-474D-9DE9-DC58398A93EE}"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62"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63"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164" name="Picture 8" descr=""/>
          <p:cNvPicPr/>
          <p:nvPr/>
        </p:nvPicPr>
        <p:blipFill>
          <a:blip r:embed="rId2"/>
          <a:srcRect l="0" t="0" r="0" b="20622"/>
          <a:stretch/>
        </p:blipFill>
        <p:spPr>
          <a:xfrm>
            <a:off x="-227160" y="-19080"/>
            <a:ext cx="1089000" cy="851040"/>
          </a:xfrm>
          <a:prstGeom prst="rect">
            <a:avLst/>
          </a:prstGeom>
          <a:ln w="0">
            <a:noFill/>
          </a:ln>
        </p:spPr>
      </p:pic>
      <p:sp>
        <p:nvSpPr>
          <p:cNvPr id="165" name="PlaceHolder 1"/>
          <p:cNvSpPr>
            <a:spLocks noGrp="1"/>
          </p:cNvSpPr>
          <p:nvPr>
            <p:ph type="ftr" idx="7"/>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zione test ammissione facoltà architettura e design a.a.06707presentazione test di ammissione alle facolt</a:t>
            </a:r>
            <a:r>
              <a:rPr b="0" lang="it-IT" sz="2400" spc="-1" strike="noStrike">
                <a:solidFill>
                  <a:srgbClr val="000000"/>
                </a:solidFill>
                <a:latin typeface="Arial"/>
              </a:rPr>
              <a:t>à di architettura – a.a.2005/2006</a:t>
            </a:r>
            <a:endParaRPr b="0" lang="en-US" sz="2400" spc="-1" strike="noStrike">
              <a:solidFill>
                <a:srgbClr val="000000"/>
              </a:solidFill>
              <a:latin typeface="Times New Roman"/>
            </a:endParaRPr>
          </a:p>
        </p:txBody>
      </p:sp>
      <p:sp>
        <p:nvSpPr>
          <p:cNvPr id="166" name="PlaceHolder 2"/>
          <p:cNvSpPr>
            <a:spLocks noGrp="1"/>
          </p:cNvSpPr>
          <p:nvPr>
            <p:ph type="sldNum" idx="8"/>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4C436-26B2-4660-AD42-26E1CC9A32E4}"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203"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04"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205" name="Picture 8" descr=""/>
          <p:cNvPicPr/>
          <p:nvPr/>
        </p:nvPicPr>
        <p:blipFill>
          <a:blip r:embed="rId2"/>
          <a:srcRect l="0" t="0" r="0" b="20622"/>
          <a:stretch/>
        </p:blipFill>
        <p:spPr>
          <a:xfrm>
            <a:off x="-227160" y="-19080"/>
            <a:ext cx="1089000" cy="851040"/>
          </a:xfrm>
          <a:prstGeom prst="rect">
            <a:avLst/>
          </a:prstGeom>
          <a:ln w="0">
            <a:noFill/>
          </a:ln>
        </p:spPr>
      </p:pic>
      <p:sp>
        <p:nvSpPr>
          <p:cNvPr id="206" name="PlaceHolder 1"/>
          <p:cNvSpPr>
            <a:spLocks noGrp="1"/>
          </p:cNvSpPr>
          <p:nvPr>
            <p:ph type="ftr" idx="9"/>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zione test ammissione facoltà architettura e design a.a.06707presentazione test di ammissione alle facolt</a:t>
            </a:r>
            <a:r>
              <a:rPr b="0" lang="it-IT" sz="2400" spc="-1" strike="noStrike">
                <a:solidFill>
                  <a:srgbClr val="000000"/>
                </a:solidFill>
                <a:latin typeface="Arial"/>
              </a:rPr>
              <a:t>à di architettura – a.a.2005/2006</a:t>
            </a:r>
            <a:endParaRPr b="0" lang="en-US" sz="2400" spc="-1" strike="noStrike">
              <a:solidFill>
                <a:srgbClr val="000000"/>
              </a:solidFill>
              <a:latin typeface="Times New Roman"/>
            </a:endParaRPr>
          </a:p>
        </p:txBody>
      </p:sp>
      <p:sp>
        <p:nvSpPr>
          <p:cNvPr id="207" name="PlaceHolder 2"/>
          <p:cNvSpPr>
            <a:spLocks noGrp="1"/>
          </p:cNvSpPr>
          <p:nvPr>
            <p:ph type="sldNum" idx="10"/>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53FD6-2014-4A4F-B641-24E769360C96}"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244"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45"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246" name="Picture 8" descr=""/>
          <p:cNvPicPr/>
          <p:nvPr/>
        </p:nvPicPr>
        <p:blipFill>
          <a:blip r:embed="rId2"/>
          <a:srcRect l="0" t="0" r="0" b="20622"/>
          <a:stretch/>
        </p:blipFill>
        <p:spPr>
          <a:xfrm>
            <a:off x="-227160" y="-19080"/>
            <a:ext cx="1089000" cy="851040"/>
          </a:xfrm>
          <a:prstGeom prst="rect">
            <a:avLst/>
          </a:prstGeom>
          <a:ln w="0">
            <a:noFill/>
          </a:ln>
        </p:spPr>
      </p:pic>
      <p:sp>
        <p:nvSpPr>
          <p:cNvPr id="247" name="PlaceHolder 1"/>
          <p:cNvSpPr>
            <a:spLocks noGrp="1"/>
          </p:cNvSpPr>
          <p:nvPr>
            <p:ph type="ftr" idx="11"/>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zione test ammissione facoltà architettura e design a.a.06707presentazione test di ammissione alle facolt</a:t>
            </a:r>
            <a:r>
              <a:rPr b="0" lang="it-IT" sz="2400" spc="-1" strike="noStrike">
                <a:solidFill>
                  <a:srgbClr val="000000"/>
                </a:solidFill>
                <a:latin typeface="Arial"/>
              </a:rPr>
              <a:t>à di architettura – a.a.2005/2006</a:t>
            </a:r>
            <a:endParaRPr b="0" lang="en-US" sz="2400" spc="-1" strike="noStrike">
              <a:solidFill>
                <a:srgbClr val="000000"/>
              </a:solidFill>
              <a:latin typeface="Times New Roman"/>
            </a:endParaRPr>
          </a:p>
        </p:txBody>
      </p:sp>
      <p:sp>
        <p:nvSpPr>
          <p:cNvPr id="248" name="PlaceHolder 2"/>
          <p:cNvSpPr>
            <a:spLocks noGrp="1"/>
          </p:cNvSpPr>
          <p:nvPr>
            <p:ph type="sldNum" idx="12"/>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7F790-9756-4384-A3B8-4F7D8E98BA42}"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249"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25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287"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88"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289" name="Picture 8" descr=""/>
          <p:cNvPicPr/>
          <p:nvPr/>
        </p:nvPicPr>
        <p:blipFill>
          <a:blip r:embed="rId2"/>
          <a:srcRect l="0" t="0" r="0" b="20622"/>
          <a:stretch/>
        </p:blipFill>
        <p:spPr>
          <a:xfrm>
            <a:off x="-227160" y="-19080"/>
            <a:ext cx="1089000" cy="851040"/>
          </a:xfrm>
          <a:prstGeom prst="rect">
            <a:avLst/>
          </a:prstGeom>
          <a:ln w="0">
            <a:noFill/>
          </a:ln>
        </p:spPr>
      </p:pic>
      <p:sp>
        <p:nvSpPr>
          <p:cNvPr id="290" name="PlaceHolder 1"/>
          <p:cNvSpPr>
            <a:spLocks noGrp="1"/>
          </p:cNvSpPr>
          <p:nvPr>
            <p:ph type="ftr" idx="13"/>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zione test ammissione facoltà architettura e design a.a.06707presentazione test di ammissione alle facolt</a:t>
            </a:r>
            <a:r>
              <a:rPr b="0" lang="it-IT" sz="2400" spc="-1" strike="noStrike">
                <a:solidFill>
                  <a:srgbClr val="000000"/>
                </a:solidFill>
                <a:latin typeface="Arial"/>
              </a:rPr>
              <a:t>à di architettura – a.a.2005/2006</a:t>
            </a:r>
            <a:endParaRPr b="0" lang="en-US" sz="2400" spc="-1" strike="noStrike">
              <a:solidFill>
                <a:srgbClr val="000000"/>
              </a:solidFill>
              <a:latin typeface="Times New Roman"/>
            </a:endParaRPr>
          </a:p>
        </p:txBody>
      </p:sp>
      <p:sp>
        <p:nvSpPr>
          <p:cNvPr id="291" name="PlaceHolder 2"/>
          <p:cNvSpPr>
            <a:spLocks noGrp="1"/>
          </p:cNvSpPr>
          <p:nvPr>
            <p:ph type="sldNum" idx="14"/>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E0DA-BF61-4FDD-AAF0-CA131B83F61D}"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328"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29"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330" name="Picture 8" descr=""/>
          <p:cNvPicPr/>
          <p:nvPr/>
        </p:nvPicPr>
        <p:blipFill>
          <a:blip r:embed="rId2"/>
          <a:srcRect l="0" t="0" r="0" b="20622"/>
          <a:stretch/>
        </p:blipFill>
        <p:spPr>
          <a:xfrm>
            <a:off x="-227160" y="-19080"/>
            <a:ext cx="1089000" cy="851040"/>
          </a:xfrm>
          <a:prstGeom prst="rect">
            <a:avLst/>
          </a:prstGeom>
          <a:ln w="0">
            <a:noFill/>
          </a:ln>
        </p:spPr>
      </p:pic>
      <p:sp>
        <p:nvSpPr>
          <p:cNvPr id="331" name="PlaceHolder 1"/>
          <p:cNvSpPr>
            <a:spLocks noGrp="1"/>
          </p:cNvSpPr>
          <p:nvPr>
            <p:ph type="ftr" idx="15"/>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zione test ammissione facoltà architettura e design a.a.06707presentazione test di ammissione alle facolt</a:t>
            </a:r>
            <a:r>
              <a:rPr b="0" lang="it-IT" sz="2400" spc="-1" strike="noStrike">
                <a:solidFill>
                  <a:srgbClr val="000000"/>
                </a:solidFill>
                <a:latin typeface="Arial"/>
              </a:rPr>
              <a:t>à di architettura – a.a.2005/2006</a:t>
            </a:r>
            <a:endParaRPr b="0" lang="en-US" sz="2400" spc="-1" strike="noStrike">
              <a:solidFill>
                <a:srgbClr val="000000"/>
              </a:solidFill>
              <a:latin typeface="Times New Roman"/>
            </a:endParaRPr>
          </a:p>
        </p:txBody>
      </p:sp>
      <p:sp>
        <p:nvSpPr>
          <p:cNvPr id="332" name="PlaceHolder 2"/>
          <p:cNvSpPr>
            <a:spLocks noGrp="1"/>
          </p:cNvSpPr>
          <p:nvPr>
            <p:ph type="sldNum" idx="16"/>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5F1E8-B3A2-4E42-8F99-85EC250EEBAB}"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451" name="Rectangle 2"/>
          <p:cNvSpPr/>
          <p:nvPr/>
        </p:nvSpPr>
        <p:spPr>
          <a:xfrm>
            <a:off x="539640" y="1341360"/>
            <a:ext cx="82155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rso: </a:t>
            </a:r>
            <a:r>
              <a:rPr b="1" lang="it-IT" sz="2000" spc="-1" strike="noStrike">
                <a:solidFill>
                  <a:srgbClr val="ff3300"/>
                </a:solidFill>
                <a:latin typeface="Verdana"/>
              </a:rPr>
              <a:t>Fashion and made in Italy</a:t>
            </a: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ocente: Prof. Biagio Finizio</a:t>
            </a: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dLM a cui è offerto: tutti i CdLM (no D&amp;E)</a:t>
            </a: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emestre: 2°</a:t>
            </a: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ingua di erogazione: inglese</a:t>
            </a: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N° max studenti ammessi: 70 Polimi + 30 Erasmus</a:t>
            </a: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odalità d’esame per non frequentanti: SI</a:t>
            </a: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52" name="Text Box 3"/>
          <p:cNvSpPr/>
          <p:nvPr/>
        </p:nvSpPr>
        <p:spPr>
          <a:xfrm>
            <a:off x="1117800" y="158760"/>
            <a:ext cx="67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Corsi a scelta Laurea Magistrale - 2°semestre</a:t>
            </a:r>
            <a:endParaRPr b="1" lang="en-US" sz="2400" spc="-1" strike="noStrike">
              <a:solidFill>
                <a:srgbClr val="ffffff"/>
              </a:solidFill>
              <a:latin typeface="Verdana"/>
            </a:endParaRPr>
          </a:p>
        </p:txBody>
      </p:sp>
      <p:sp>
        <p:nvSpPr>
          <p:cNvPr id="453" name="Text Box 3"/>
          <p:cNvSpPr/>
          <p:nvPr/>
        </p:nvSpPr>
        <p:spPr>
          <a:xfrm>
            <a:off x="4788000" y="6583320"/>
            <a:ext cx="435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esentazione Corsi a scelta II Livello – 9 settembre '14</a:t>
            </a:r>
            <a:endParaRPr b="1" lang="en-US" sz="1200" spc="-1" strike="noStrike">
              <a:solidFill>
                <a:srgbClr val="ffffff"/>
              </a:solidFill>
              <a:latin typeface="Verdana"/>
            </a:endParaRPr>
          </a:p>
        </p:txBody>
      </p:sp>
      <p:sp>
        <p:nvSpPr>
          <p:cNvPr id="454" name="Rectangle 2"/>
          <p:cNvSpPr/>
          <p:nvPr/>
        </p:nvSpPr>
        <p:spPr>
          <a:xfrm>
            <a:off x="539640" y="3789360"/>
            <a:ext cx="82234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55" name="CasellaDiTesto 5"/>
          <p:cNvSpPr/>
          <p:nvPr/>
        </p:nvSpPr>
        <p:spPr>
          <a:xfrm>
            <a:off x="228600" y="3657600"/>
            <a:ext cx="861048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ea typeface="Arial"/>
              </a:rPr>
              <a:t>L’identità del marchio, del prodotto, dell’impresa industriale e di servizio, compresi gli enti no profit, costituisce il valore essenziale che l’unità o la comunità ha acquisito nel tempo. Il Fashion Design e il Made in Italy sono identità consolidate che rappresentano l’intelletto e la produzione italiana nel mondo. Il corso si propone di trasferire agli studenti la conoscenza delle origini e dell’evoluzione dei fenomeni primari, Fashion Design e Made in Italy, che hanno caratterizzato il fare dell’ingegno italiano e del suo rinascimento.</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456" name="Text Box 3"/>
          <p:cNvSpPr/>
          <p:nvPr/>
        </p:nvSpPr>
        <p:spPr>
          <a:xfrm>
            <a:off x="1129680" y="158760"/>
            <a:ext cx="67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ea typeface="Arial"/>
              </a:rPr>
              <a:t>Corsi a scelta Laurea Magistrale - 2°semestre</a:t>
            </a:r>
            <a:endParaRPr b="1" lang="en-US" sz="2400" spc="-1" strike="noStrike">
              <a:solidFill>
                <a:srgbClr val="ffffff"/>
              </a:solidFill>
              <a:latin typeface="Verdana"/>
            </a:endParaRPr>
          </a:p>
        </p:txBody>
      </p:sp>
      <p:sp>
        <p:nvSpPr>
          <p:cNvPr id="457" name="Text Box 3"/>
          <p:cNvSpPr/>
          <p:nvPr/>
        </p:nvSpPr>
        <p:spPr>
          <a:xfrm>
            <a:off x="4788000" y="6583320"/>
            <a:ext cx="435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esentazione Corsi a scelta II Livello – 9 settembre '14</a:t>
            </a:r>
            <a:endParaRPr b="1" lang="en-US" sz="1200" spc="-1" strike="noStrike">
              <a:solidFill>
                <a:srgbClr val="ffffff"/>
              </a:solidFill>
              <a:latin typeface="Verdana"/>
            </a:endParaRPr>
          </a:p>
        </p:txBody>
      </p:sp>
      <p:sp>
        <p:nvSpPr>
          <p:cNvPr id="458" name="Rectangle 2"/>
          <p:cNvSpPr/>
          <p:nvPr/>
        </p:nvSpPr>
        <p:spPr>
          <a:xfrm>
            <a:off x="457200" y="1066680"/>
            <a:ext cx="835200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59" name="CasellaDiTesto 4"/>
          <p:cNvSpPr/>
          <p:nvPr/>
        </p:nvSpPr>
        <p:spPr>
          <a:xfrm>
            <a:off x="304920" y="762120"/>
            <a:ext cx="8534160" cy="58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ea typeface="Arial"/>
              </a:rPr>
              <a:t>L’insegnamento introduce all’utilizzo di un metodo rigoroso nella progettazione industriale che capace di condurre gli studenti verso lo sviluppo di prodotti minimi e sostenibili. </a:t>
            </a:r>
            <a:endParaRPr b="1" lang="en-US" sz="2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ea typeface="Arial"/>
              </a:rPr>
              <a:t>Il Fashion è progetto di abbigliamento, accessori e identità caratterizzante, Il Made in Italy è garanzia di qualità di processo e di materia. Il metodo Integrated Design Process si applica in ogni ambito progettuale, product design, fashion design, interior design, design della comunicazione, design management, corporate identity and transportation graphics, literature. Gli strumenti, gli automatismi, i computer, l’intelligenza artificiale e la tecnologia che alimentano il mondo virtuale sono mezzi che favoriscono lo sviluppo dei prodotti senza influenzare la creatività e la progettualità insite nell’uomo: il progetto, il disegno, il percorso creativo, il processo industriale sono i punti cardine che determinano il prodotto e il servizio di qualità, adatto all’uomo e alle sue esigenze anche di breve periodo.</a:t>
            </a:r>
            <a:endParaRPr b="1" lang="en-US" sz="2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ea typeface="Arial"/>
              </a:rPr>
              <a:t>La città è un luogo di aggregazione, di persone ed oggetti, che vanno a definire un mosaico mobile di forme e colori che determinano la cultura del luogo proiettata nel tempo.</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460" name="CasellaDiTesto 1"/>
          <p:cNvSpPr/>
          <p:nvPr/>
        </p:nvSpPr>
        <p:spPr>
          <a:xfrm>
            <a:off x="304920" y="3657600"/>
            <a:ext cx="845820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ea typeface="Arial"/>
              </a:rPr>
              <a:t>Brand identity, identity of the product, identity of industrial or service enterprises, including non-profit organizations, is the core value acquired over time. Fashion Design and Made in Italy are established identities, which are represent the italian intellect and the Italian production all over the world. The course aims to give students the knowledge of origins and evolution of Fashion Design and Made in Italy, which have characterized the italian talent and italian Renaissance. </a:t>
            </a:r>
            <a:endParaRPr b="1" lang="en-US" sz="2000" spc="-1" strike="noStrike">
              <a:solidFill>
                <a:srgbClr val="ffffff"/>
              </a:solidFill>
              <a:latin typeface="Verdana"/>
            </a:endParaRPr>
          </a:p>
        </p:txBody>
      </p:sp>
      <p:sp>
        <p:nvSpPr>
          <p:cNvPr id="461" name="Rectangle 2"/>
          <p:cNvSpPr/>
          <p:nvPr/>
        </p:nvSpPr>
        <p:spPr>
          <a:xfrm>
            <a:off x="539640" y="1341360"/>
            <a:ext cx="82155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rso: </a:t>
            </a:r>
            <a:r>
              <a:rPr b="1" lang="it-IT" sz="2000" spc="-1" strike="noStrike">
                <a:solidFill>
                  <a:srgbClr val="ff3300"/>
                </a:solidFill>
                <a:latin typeface="Verdana"/>
              </a:rPr>
              <a:t>Fashion and made in Italy</a:t>
            </a: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ocente: Prof. Biagio Finizio</a:t>
            </a: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dLM a cui è offerto: tutti i CdLM (no D&amp;E)</a:t>
            </a: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emestre: 2°</a:t>
            </a: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ingua di erogazione: inglese</a:t>
            </a: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N° max studenti ammessi: 70 Polimi + 30 Erasmus</a:t>
            </a: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odalità d’esame per non frequentanti: SI</a:t>
            </a: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462" name="CasellaDiTesto 1"/>
          <p:cNvSpPr/>
          <p:nvPr/>
        </p:nvSpPr>
        <p:spPr>
          <a:xfrm>
            <a:off x="380880" y="1066680"/>
            <a:ext cx="838224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ea typeface="Arial"/>
              </a:rPr>
              <a:t>The course introduces the use of an industrial design rigorous method: the students will be able to design minimum and sustainable products. Fashion means to design clothing, accessories and distinguish identity, Made in Italy means quality in process and material. Integrated Design Process is applicable in all areas of design, product design, fashion design, interior design, communication design, design management, corporate identity and transportation graphics, literature. </a:t>
            </a:r>
            <a:endParaRPr b="1" lang="en-US" sz="2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ea typeface="Arial"/>
              </a:rPr>
              <a:t>Instruments, automation, computers, artificial intelligence and technology that fuel virtual world are just means for the development of products. They do not affect human creativity and planning feasibility: project, design, creative process, industrial process are key points that determine a quality product and a quality, suited to man and his needs, even for a short period. The city is a meeting place, people and objects define a moving patchwork of shapes and colors that determine the culture of the area projected in time.</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463" name="Text Box 3"/>
          <p:cNvSpPr/>
          <p:nvPr/>
        </p:nvSpPr>
        <p:spPr>
          <a:xfrm>
            <a:off x="1129680" y="158760"/>
            <a:ext cx="67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ea typeface="Arial"/>
              </a:rPr>
              <a:t>Corsi a scelta Laurea Magistrale - 2°semestre</a:t>
            </a:r>
            <a:endParaRPr b="1" lang="en-US" sz="2400" spc="-1" strike="noStrike">
              <a:solidFill>
                <a:srgbClr val="ffffff"/>
              </a:solidFill>
              <a:latin typeface="Verdana"/>
            </a:endParaRPr>
          </a:p>
        </p:txBody>
      </p:sp>
      <p:sp>
        <p:nvSpPr>
          <p:cNvPr id="464" name="Text Box 3"/>
          <p:cNvSpPr/>
          <p:nvPr/>
        </p:nvSpPr>
        <p:spPr>
          <a:xfrm>
            <a:off x="4788000" y="6583320"/>
            <a:ext cx="435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esentazione Corsi a scelta II Livello – 9 settembre '14</a:t>
            </a:r>
            <a:endParaRPr b="1" lang="en-US" sz="1200" spc="-1" strike="noStrike">
              <a:solidFill>
                <a:srgbClr val="ffffff"/>
              </a:solidFill>
              <a:latin typeface="Verdana"/>
            </a:endParaRPr>
          </a:p>
        </p:txBody>
      </p:sp>
      <p:sp>
        <p:nvSpPr>
          <p:cNvPr id="465" name="Rectangle 2"/>
          <p:cNvSpPr/>
          <p:nvPr/>
        </p:nvSpPr>
        <p:spPr>
          <a:xfrm>
            <a:off x="457200" y="1066680"/>
            <a:ext cx="835200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66" name="CasellaDiTesto 4"/>
          <p:cNvSpPr/>
          <p:nvPr/>
        </p:nvSpPr>
        <p:spPr>
          <a:xfrm>
            <a:off x="304920" y="914400"/>
            <a:ext cx="853416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ea typeface="Arial"/>
              </a:rPr>
              <a:t>Bibliografia</a:t>
            </a:r>
            <a:endParaRPr b="1" lang="en-US" sz="1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ea typeface="Arial"/>
              </a:rPr>
              <a:t>-  R. Dalisi e G. Finizio, Creatività, Design e Management, Percorsi nella cultura del progetto, Electa Napoli, 2000</a:t>
            </a:r>
            <a:endParaRPr b="1" lang="en-US" sz="1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ea typeface="Arial"/>
              </a:rPr>
              <a:t>- Christopher Lorenz, Dimensione design: l'arma vincente della competizione globale, Franco Angeli, 1990</a:t>
            </a:r>
            <a:endParaRPr b="1" lang="en-US" sz="1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ea typeface="Arial"/>
              </a:rPr>
              <a:t>-   Ampelio Bucci, L'impresa guidata dalle idee. Management della moda e del design, Domus Academy, 1998</a:t>
            </a:r>
            <a:endParaRPr b="1" lang="en-US" sz="1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ea typeface="Arial"/>
              </a:rPr>
              <a:t>-   Gino Finizio, Design&amp;management. Gestire l'idea, Skira, 2002</a:t>
            </a:r>
            <a:endParaRPr b="1" lang="en-US" sz="1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ea typeface="Arial"/>
              </a:rPr>
              <a:t>-   T. Maldonado, Reale e virtuale, Feltrinelli, 2005</a:t>
            </a:r>
            <a:endParaRPr b="1" lang="en-US" sz="1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ea typeface="Arial"/>
              </a:rPr>
              <a:t>-  Gino Finizio, Architecture&amp;mobility. Tradition and innovation. Skira, 2006</a:t>
            </a:r>
            <a:endParaRPr b="1" lang="en-US" sz="1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ea typeface="Arial"/>
              </a:rPr>
              <a:t>-   G. Dorfles, Horror Pleni - la (in)civiltà del rumore, Castelvecchi, 2008</a:t>
            </a:r>
            <a:endParaRPr b="1" lang="en-US" sz="1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ea typeface="Arial"/>
              </a:rPr>
              <a:t>- Gino Finizio, Minimo&amp;sostenibile. La città ha raggiunto la montagna, umanesimo disegnativo, Skira, 2012</a:t>
            </a:r>
            <a:endParaRPr b="1"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467" name="Text Box 3"/>
          <p:cNvSpPr/>
          <p:nvPr/>
        </p:nvSpPr>
        <p:spPr>
          <a:xfrm>
            <a:off x="1129680" y="158760"/>
            <a:ext cx="67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ea typeface="Arial"/>
              </a:rPr>
              <a:t>Corsi a scelta Laurea Magistrale - 2°semestre</a:t>
            </a:r>
            <a:endParaRPr b="1" lang="en-US" sz="2400" spc="-1" strike="noStrike">
              <a:solidFill>
                <a:srgbClr val="ffffff"/>
              </a:solidFill>
              <a:latin typeface="Verdana"/>
            </a:endParaRPr>
          </a:p>
        </p:txBody>
      </p:sp>
      <p:sp>
        <p:nvSpPr>
          <p:cNvPr id="468" name="Text Box 3"/>
          <p:cNvSpPr/>
          <p:nvPr/>
        </p:nvSpPr>
        <p:spPr>
          <a:xfrm>
            <a:off x="4788000" y="6583320"/>
            <a:ext cx="435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esentazione Corsi a scelta II Livello – 9 settembre '14</a:t>
            </a:r>
            <a:endParaRPr b="1" lang="en-US" sz="1200" spc="-1" strike="noStrike">
              <a:solidFill>
                <a:srgbClr val="ffffff"/>
              </a:solidFill>
              <a:latin typeface="Verdana"/>
            </a:endParaRPr>
          </a:p>
        </p:txBody>
      </p:sp>
      <p:sp>
        <p:nvSpPr>
          <p:cNvPr id="469" name="Rectangle 2"/>
          <p:cNvSpPr/>
          <p:nvPr/>
        </p:nvSpPr>
        <p:spPr>
          <a:xfrm>
            <a:off x="457200" y="1066680"/>
            <a:ext cx="835200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470" name="Immagine 5" descr="192 NB.tif"/>
          <p:cNvPicPr/>
          <p:nvPr/>
        </p:nvPicPr>
        <p:blipFill>
          <a:blip r:embed="rId1"/>
          <a:stretch/>
        </p:blipFill>
        <p:spPr>
          <a:xfrm>
            <a:off x="1371600" y="1066680"/>
            <a:ext cx="6934320" cy="5489640"/>
          </a:xfrm>
          <a:prstGeom prst="rect">
            <a:avLst/>
          </a:prstGeom>
          <a:ln w="0">
            <a:noFill/>
          </a:ln>
        </p:spPr>
      </p:pic>
      <p:sp>
        <p:nvSpPr>
          <p:cNvPr id="471" name="CasellaDiTesto 6"/>
          <p:cNvSpPr/>
          <p:nvPr/>
        </p:nvSpPr>
        <p:spPr>
          <a:xfrm>
            <a:off x="380880" y="6248520"/>
            <a:ext cx="3124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Ciclo di innovazione del prodotto</a:t>
            </a:r>
            <a:endParaRPr b="1"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3T12:42:09Z</dcterms:created>
  <dc:creator>Silvia</dc:creator>
  <dc:description/>
  <dc:language>en-US</dc:language>
  <cp:lastModifiedBy>bob</cp:lastModifiedBy>
  <cp:lastPrinted>2003-05-08T11:08:41Z</cp:lastPrinted>
  <dcterms:modified xsi:type="dcterms:W3CDTF">2014-07-23T19:20:44Z</dcterms:modified>
  <cp:revision>226</cp:revision>
  <dc:subject/>
  <dc:title>Inserire immagine della locandina, possibilmente in trasparenza e aggiungere Facoltà di Architettura Illustrazione prova di ammissione prof. Silvia Piardi (idem Cedolin)</dc:title>
</cp:coreProperties>
</file>